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674-9EAE-4014-A774-DE97BD98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92C-AE17-426A-8F4C-8184512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4B2-3085-4CEF-BD31-76810E4A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473-B8F8-4AF7-AF81-3C278EA6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7899-3646-4C59-88F9-FDD2B091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BBC1-9FF4-45B6-86DC-1A51821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7F90-BFF8-4D34-9B2B-46B794D0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291-C566-43CD-B449-01C32E0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8CAC-88A9-4C41-A905-97C3836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2694-AE03-499A-8190-F457205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A5D9-43F5-4190-B714-61564F5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D2A-33EA-46A3-B648-534355E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77CC-2D52-4AFA-94EF-AFAEA00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14E-6981-43DF-8894-3FFF083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758-A522-40D1-B36E-3B725EE8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6BD-0AA0-497F-A161-D29F0B2F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6A54-F1AE-47A7-8E35-1201562C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880-8F4D-46D8-860E-003E128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1A6-C1B9-492F-B563-61E8CFCB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E6F-C80E-4496-AEC4-7F5C704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18B-BF5D-4341-B618-1CD44DB2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9AE-FA16-4CD8-A7AE-6D034F9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456-15F3-44E4-9A82-A842DBA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F50-B758-4C29-BA54-93E91D0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ED4-8ADB-4F38-912C-1E341ABA5D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76E-ADE5-4ECB-B218-AB2B752E5E98}" type="slidenum">
              <a:rPr b="0" lang="es-E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clinamen.cl/Diseno-clinamen/bandera-aymara.gif&amp;imgrefurl=http://www.clinamen.cl/Nortegrande/Aymaras.htm&amp;usg=__B3TA_JLQJEYaO5_K__VHB7vN0qo=&amp;h=98&amp;w=98&amp;sz=5&amp;hl=es&amp;start=39&amp;tbnid=DOm0RKZxpUm6lM:&amp;tbnh=81&amp;tbnw=81&amp;prev=/images%3Fq%3DReinos%2BAymara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noseguro.com/pictures/fotos_bolivia/lago%2520_titicaca.jpg&amp;imgrefurl=http://www.noseguro.com/turismo_bolivia_lago_titicaca.htm&amp;usg=__j0TL3ZpTMxxr5V_57wwDNYM7Us4=&amp;h=1536&amp;w=2048&amp;sz=1623&amp;hl=es&amp;start=2&amp;tbnid=RbOy13FCynlNXM:&amp;tbnh=113&amp;tbnw=150&amp;prev=/images%3Fq%3DBalsas%2Bde%2Btotora%2BTiticaca%26gbv%3D2%26hl%3Des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kyapa.tripod.com/agengineering/thermalcontrol/tiwcamellones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96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es-ES" sz="4400" spc="-1" strike="noStrike">
                <a:solidFill>
                  <a:srgbClr val="d1ddd4"/>
                </a:solidFill>
                <a:latin typeface="Snap ITC"/>
              </a:rPr>
              <a:t>CULTURAS PREHISPÁNICAS DEL PERÚ </a:t>
            </a:r>
            <a:br>
              <a:rPr sz="4400"/>
            </a:br>
            <a:br>
              <a:rPr sz="5100"/>
            </a:br>
            <a:r>
              <a:rPr b="1" lang="es-ES" sz="4000" spc="-1" strike="noStrike">
                <a:solidFill>
                  <a:srgbClr val="d1ddd4"/>
                </a:solidFill>
                <a:latin typeface="Snap ITC"/>
              </a:rPr>
              <a:t>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5" name="Picture 5" descr="020-aimara-aymara-schilfboot-auf-titicacasee"/>
          <p:cNvPicPr/>
          <p:nvPr/>
        </p:nvPicPr>
        <p:blipFill>
          <a:blip r:embed="rId1"/>
          <a:stretch/>
        </p:blipFill>
        <p:spPr>
          <a:xfrm>
            <a:off x="684360" y="3573360"/>
            <a:ext cx="2106360" cy="228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andera-ayma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01336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Centro: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Comic Sans MS"/>
              </a:rPr>
              <a:t>Puno</a:t>
            </a: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 – Bolivia (Altiplano Perú – Bolivia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Meseta del Collao – Lago Titicac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9" name="Picture 8" descr="lago%2520_titica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653000"/>
            <a:ext cx="2881440" cy="183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karte14-aymara-aimara-koenigreiche-anfang15jh"/>
          <p:cNvPicPr/>
          <p:nvPr/>
        </p:nvPicPr>
        <p:blipFill>
          <a:blip r:embed="rId3"/>
          <a:stretch/>
        </p:blipFill>
        <p:spPr>
          <a:xfrm>
            <a:off x="395280" y="1197000"/>
            <a:ext cx="287964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aimara"/>
          <p:cNvPicPr/>
          <p:nvPr/>
        </p:nvPicPr>
        <p:blipFill>
          <a:blip r:embed="rId4"/>
          <a:stretch/>
        </p:blipFill>
        <p:spPr>
          <a:xfrm>
            <a:off x="1979640" y="2924280"/>
            <a:ext cx="2665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ddd4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Existieron al mismo tiempo que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: Chimú, Chincha, Cajamarca,  Chachapoyas, Chancas y Reino del Cuzco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Picture 7" descr="Mapa"/>
          <p:cNvPicPr/>
          <p:nvPr/>
        </p:nvPicPr>
        <p:blipFill>
          <a:blip r:embed="rId1"/>
          <a:stretch/>
        </p:blipFill>
        <p:spPr>
          <a:xfrm>
            <a:off x="4680000" y="148428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Origen histórico de los 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Verdana"/>
              </a:rPr>
              <a:t>     </a:t>
            </a:r>
            <a:r>
              <a:rPr b="0" lang="es-ES" sz="3200" spc="-1" strike="noStrike">
                <a:solidFill>
                  <a:srgbClr val="f8f8f8"/>
                </a:solidFill>
                <a:latin typeface="Comic Sans MS"/>
              </a:rPr>
              <a:t>Luego de la desaparición de Tiahuanaco, surgieron muchos señoríos o reinos independientes entre los Aymaras del lago Titicaca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5" descr="aymara-tiwanaku"/>
          <p:cNvPicPr/>
          <p:nvPr/>
        </p:nvPicPr>
        <p:blipFill>
          <a:blip r:embed="rId1"/>
          <a:stretch/>
        </p:blipFill>
        <p:spPr>
          <a:xfrm>
            <a:off x="1619280" y="3789360"/>
            <a:ext cx="3089160" cy="255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533450383_054f030835"/>
          <p:cNvPicPr/>
          <p:nvPr/>
        </p:nvPicPr>
        <p:blipFill>
          <a:blip r:embed="rId2"/>
          <a:stretch/>
        </p:blipFill>
        <p:spPr>
          <a:xfrm>
            <a:off x="5292720" y="3716280"/>
            <a:ext cx="1971720" cy="2629080"/>
          </a:xfrm>
          <a:prstGeom prst="rect">
            <a:avLst/>
          </a:prstGeom>
          <a:ln w="0">
            <a:noFill/>
          </a:ln>
        </p:spPr>
      </p:pic>
      <p:sp>
        <p:nvSpPr>
          <p:cNvPr id="129" name="Line 8"/>
          <p:cNvSpPr/>
          <p:nvPr/>
        </p:nvSpPr>
        <p:spPr>
          <a:xfrm>
            <a:off x="5364000" y="3789360"/>
            <a:ext cx="1944720" cy="25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5292720" y="3716280"/>
            <a:ext cx="2016000" cy="25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Los aymaras estaban divididos en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16 señoríos</a:t>
            </a: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 (o reinos). Los más importantes fueron: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Lupacas y Collas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7" descr="mujer1"/>
          <p:cNvPicPr/>
          <p:nvPr/>
        </p:nvPicPr>
        <p:blipFill>
          <a:blip r:embed="rId1"/>
          <a:stretch/>
        </p:blipFill>
        <p:spPr>
          <a:xfrm>
            <a:off x="7164360" y="2492280"/>
            <a:ext cx="1530360" cy="21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ymara"/>
          <p:cNvPicPr/>
          <p:nvPr/>
        </p:nvPicPr>
        <p:blipFill>
          <a:blip r:embed="rId2"/>
          <a:stretch/>
        </p:blipFill>
        <p:spPr>
          <a:xfrm>
            <a:off x="3348000" y="378936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Aymara01"/>
          <p:cNvPicPr/>
          <p:nvPr/>
        </p:nvPicPr>
        <p:blipFill>
          <a:blip r:embed="rId3"/>
          <a:stretch/>
        </p:blipFill>
        <p:spPr>
          <a:xfrm>
            <a:off x="324000" y="3357720"/>
            <a:ext cx="1450800" cy="21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508_370x0"/>
          <p:cNvPicPr/>
          <p:nvPr/>
        </p:nvPicPr>
        <p:blipFill>
          <a:blip r:embed="rId4"/>
          <a:stretch/>
        </p:blipFill>
        <p:spPr>
          <a:xfrm>
            <a:off x="3419640" y="2421000"/>
            <a:ext cx="1977840" cy="145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20071019114217-aymaras"/>
          <p:cNvPicPr/>
          <p:nvPr/>
        </p:nvPicPr>
        <p:blipFill>
          <a:blip r:embed="rId5"/>
          <a:stretch/>
        </p:blipFill>
        <p:spPr>
          <a:xfrm>
            <a:off x="1619280" y="2421000"/>
            <a:ext cx="1800360" cy="238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nina_aymara%20120"/>
          <p:cNvPicPr/>
          <p:nvPr/>
        </p:nvPicPr>
        <p:blipFill>
          <a:blip r:embed="rId6"/>
          <a:stretch/>
        </p:blipFill>
        <p:spPr>
          <a:xfrm>
            <a:off x="468360" y="22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Mercaderias_suelo_El_Alto_FranzChavez_IPS"/>
          <p:cNvPicPr/>
          <p:nvPr/>
        </p:nvPicPr>
        <p:blipFill>
          <a:blip r:embed="rId7"/>
          <a:stretch/>
        </p:blipFill>
        <p:spPr>
          <a:xfrm>
            <a:off x="1258920" y="4724280"/>
            <a:ext cx="223200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Mujeres_aymara_con_siku_y_caja_-_flickr-photos-micahmacallen-85524669_(CC-BY-SA)"/>
          <p:cNvPicPr/>
          <p:nvPr/>
        </p:nvPicPr>
        <p:blipFill>
          <a:blip r:embed="rId8"/>
          <a:stretch/>
        </p:blipFill>
        <p:spPr>
          <a:xfrm>
            <a:off x="7093080" y="4292640"/>
            <a:ext cx="176184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35904727_ddeaf59560_m"/>
          <p:cNvPicPr/>
          <p:nvPr/>
        </p:nvPicPr>
        <p:blipFill>
          <a:blip r:embed="rId9"/>
          <a:stretch/>
        </p:blipFill>
        <p:spPr>
          <a:xfrm>
            <a:off x="5364000" y="2421000"/>
            <a:ext cx="165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Aspecto Económico: </a:t>
            </a:r>
            <a:br>
              <a:rPr sz="4000"/>
            </a:b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Ganadería de Camélido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3" name="Picture 5" descr="150508101201%20alpacas%2002"/>
          <p:cNvPicPr/>
          <p:nvPr/>
        </p:nvPicPr>
        <p:blipFill>
          <a:blip r:embed="rId1"/>
          <a:stretch/>
        </p:blipFill>
        <p:spPr>
          <a:xfrm>
            <a:off x="2843280" y="1628640"/>
            <a:ext cx="3352680" cy="252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20080731klphishbo_33_Ies_SCO"/>
          <p:cNvPicPr/>
          <p:nvPr/>
        </p:nvPicPr>
        <p:blipFill>
          <a:blip r:embed="rId2"/>
          <a:stretch/>
        </p:blipFill>
        <p:spPr>
          <a:xfrm>
            <a:off x="395280" y="2708280"/>
            <a:ext cx="2543040" cy="320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girls1"/>
          <p:cNvPicPr/>
          <p:nvPr/>
        </p:nvPicPr>
        <p:blipFill>
          <a:blip r:embed="rId3"/>
          <a:stretch/>
        </p:blipFill>
        <p:spPr>
          <a:xfrm>
            <a:off x="3780000" y="4149720"/>
            <a:ext cx="1804680" cy="2239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20080607klpgeogpe_20_Ies_SCO"/>
          <p:cNvPicPr/>
          <p:nvPr/>
        </p:nvPicPr>
        <p:blipFill>
          <a:blip r:embed="rId4"/>
          <a:stretch/>
        </p:blipFill>
        <p:spPr>
          <a:xfrm>
            <a:off x="6227640" y="2637000"/>
            <a:ext cx="1714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Tecnología agrícola: waru waru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Comic Sans MS"/>
              </a:rPr>
              <a:t>Recursos para crear microclimas y cultivar en altura (más</a:t>
            </a:r>
            <a:r>
              <a:rPr b="0" lang="es-ES" sz="3200" spc="-1" strike="noStrike">
                <a:solidFill>
                  <a:srgbClr val="f8f8f8"/>
                </a:solidFill>
                <a:latin typeface="Verdana"/>
              </a:rPr>
              <a:t> de 4 000 m.s.n.m.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9" name="Picture 5" descr="waru"/>
          <p:cNvPicPr/>
          <p:nvPr/>
        </p:nvPicPr>
        <p:blipFill>
          <a:blip r:embed="rId1"/>
          <a:stretch/>
        </p:blipFill>
        <p:spPr>
          <a:xfrm>
            <a:off x="250920" y="4076640"/>
            <a:ext cx="1904760" cy="187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997360"/>
            <a:ext cx="2125800" cy="1361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200px-Waru_waru_moderno"/>
          <p:cNvPicPr/>
          <p:nvPr/>
        </p:nvPicPr>
        <p:blipFill>
          <a:blip r:embed="rId4"/>
          <a:stretch/>
        </p:blipFill>
        <p:spPr>
          <a:xfrm>
            <a:off x="395280" y="2852640"/>
            <a:ext cx="1905120" cy="138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g1-2a"/>
          <p:cNvPicPr/>
          <p:nvPr/>
        </p:nvPicPr>
        <p:blipFill>
          <a:blip r:embed="rId5"/>
          <a:stretch/>
        </p:blipFill>
        <p:spPr>
          <a:xfrm>
            <a:off x="2268360" y="3068640"/>
            <a:ext cx="2857680" cy="1123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cosecha_aymara1"/>
          <p:cNvPicPr/>
          <p:nvPr/>
        </p:nvPicPr>
        <p:blipFill>
          <a:blip r:embed="rId6"/>
          <a:stretch/>
        </p:blipFill>
        <p:spPr>
          <a:xfrm>
            <a:off x="2050920" y="4221000"/>
            <a:ext cx="2355840" cy="1765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papas"/>
          <p:cNvPicPr/>
          <p:nvPr/>
        </p:nvPicPr>
        <p:blipFill>
          <a:blip r:embed="rId7"/>
          <a:stretch/>
        </p:blipFill>
        <p:spPr>
          <a:xfrm>
            <a:off x="4356000" y="4292640"/>
            <a:ext cx="2370240" cy="171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20080731klphishbo_13_Ies_SCO"/>
          <p:cNvPicPr/>
          <p:nvPr/>
        </p:nvPicPr>
        <p:blipFill>
          <a:blip r:embed="rId8"/>
          <a:stretch/>
        </p:blipFill>
        <p:spPr>
          <a:xfrm>
            <a:off x="6516720" y="4076640"/>
            <a:ext cx="2124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Oval 18"/>
          <p:cNvSpPr/>
          <p:nvPr/>
        </p:nvSpPr>
        <p:spPr>
          <a:xfrm>
            <a:off x="6948360" y="2637000"/>
            <a:ext cx="1582920" cy="1081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Waru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Waru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7" name="Oval 20"/>
          <p:cNvSpPr/>
          <p:nvPr/>
        </p:nvSpPr>
        <p:spPr>
          <a:xfrm>
            <a:off x="5724360" y="5589720"/>
            <a:ext cx="1800360" cy="985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Tubérculo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andino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Chullpas de Sillustani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9" name="Picture 5" descr="chullpas%20sillustani"/>
          <p:cNvPicPr/>
          <p:nvPr/>
        </p:nvPicPr>
        <p:blipFill>
          <a:blip r:embed="rId1"/>
          <a:stretch/>
        </p:blipFill>
        <p:spPr>
          <a:xfrm>
            <a:off x="3635280" y="155736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60" name="Oval 6"/>
          <p:cNvSpPr/>
          <p:nvPr/>
        </p:nvSpPr>
        <p:spPr>
          <a:xfrm>
            <a:off x="1476360" y="4724280"/>
            <a:ext cx="1922400" cy="914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Torre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funeraria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8" descr="34%20Chullpas%20of%20Sillustani%207_8_04"/>
          <p:cNvPicPr/>
          <p:nvPr/>
        </p:nvPicPr>
        <p:blipFill>
          <a:blip r:embed="rId2"/>
          <a:stretch/>
        </p:blipFill>
        <p:spPr>
          <a:xfrm>
            <a:off x="1187280" y="1341360"/>
            <a:ext cx="2448000" cy="3276720"/>
          </a:xfrm>
          <a:prstGeom prst="rect">
            <a:avLst/>
          </a:prstGeom>
          <a:ln w="0">
            <a:noFill/>
          </a:ln>
        </p:spPr>
      </p:pic>
      <p:sp>
        <p:nvSpPr>
          <p:cNvPr id="162" name="Oval 9"/>
          <p:cNvSpPr/>
          <p:nvPr/>
        </p:nvSpPr>
        <p:spPr>
          <a:xfrm>
            <a:off x="3924360" y="5300640"/>
            <a:ext cx="228132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Reino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de los Colla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3419640" y="5300280"/>
            <a:ext cx="504720" cy="289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4" name="Line 11"/>
          <p:cNvSpPr/>
          <p:nvPr/>
        </p:nvSpPr>
        <p:spPr>
          <a:xfrm flipV="1">
            <a:off x="2700360" y="3860280"/>
            <a:ext cx="142920" cy="863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276720" y="3789000"/>
            <a:ext cx="1871640" cy="1152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Ciencia y tecnología </a:t>
            </a:r>
            <a:br>
              <a:rPr sz="4000"/>
            </a:b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Comic Sans MS"/>
              </a:rPr>
              <a:t>Navegación lacustre en balsas de totor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11" descr="Peru63"/>
          <p:cNvPicPr/>
          <p:nvPr/>
        </p:nvPicPr>
        <p:blipFill>
          <a:blip r:embed="rId1"/>
          <a:stretch/>
        </p:blipFill>
        <p:spPr>
          <a:xfrm>
            <a:off x="539640" y="1700280"/>
            <a:ext cx="3714840" cy="27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alsa"/>
          <p:cNvPicPr/>
          <p:nvPr/>
        </p:nvPicPr>
        <p:blipFill>
          <a:blip r:embed="rId2"/>
          <a:stretch/>
        </p:blipFill>
        <p:spPr>
          <a:xfrm>
            <a:off x="1042920" y="4365720"/>
            <a:ext cx="2398680" cy="165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37%20Reed%20Boat%208_8_04"/>
          <p:cNvPicPr/>
          <p:nvPr/>
        </p:nvPicPr>
        <p:blipFill>
          <a:blip r:embed="rId3"/>
          <a:stretch/>
        </p:blipFill>
        <p:spPr>
          <a:xfrm>
            <a:off x="4643280" y="3933720"/>
            <a:ext cx="36738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02:37Z</dcterms:created>
  <dc:creator>Beautiful Lia</dc:creator>
  <dc:description/>
  <dc:language>en-US</dc:language>
  <cp:lastModifiedBy>Computo</cp:lastModifiedBy>
  <dcterms:modified xsi:type="dcterms:W3CDTF">2009-11-16T22:21:46Z</dcterms:modified>
  <cp:revision>18</cp:revision>
  <dc:subject/>
  <dc:title>                 CULTURAS PREHISPÁNICAS DEL PERÚ   REINOS AYMARAS</dc:title>
</cp:coreProperties>
</file>